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8320" y="1219320"/>
            <a:ext cx="7194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8320" y="3766680"/>
            <a:ext cx="7194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8320" y="1219320"/>
            <a:ext cx="3510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5080" y="1219320"/>
            <a:ext cx="3510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8320" y="3766680"/>
            <a:ext cx="3510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5080" y="3766680"/>
            <a:ext cx="3510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8320" y="1219320"/>
            <a:ext cx="2316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90840" y="1219320"/>
            <a:ext cx="2316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23360" y="1219320"/>
            <a:ext cx="2316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8320" y="3766680"/>
            <a:ext cx="2316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90840" y="3766680"/>
            <a:ext cx="2316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23360" y="3766680"/>
            <a:ext cx="2316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8320" y="1219320"/>
            <a:ext cx="7194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8320" y="1219320"/>
            <a:ext cx="7194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8320" y="1219320"/>
            <a:ext cx="3510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5080" y="1219320"/>
            <a:ext cx="3510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8320" y="1219320"/>
            <a:ext cx="3510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5080" y="1219320"/>
            <a:ext cx="3510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8320" y="3766680"/>
            <a:ext cx="3510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8320" y="1219320"/>
            <a:ext cx="3510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5080" y="1219320"/>
            <a:ext cx="3510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5080" y="3766680"/>
            <a:ext cx="3510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8320" y="1219320"/>
            <a:ext cx="3510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5080" y="1219320"/>
            <a:ext cx="3510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8320" y="3766680"/>
            <a:ext cx="7194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solidFill>
            <a:srgbClr val="e4fcdc"/>
          </a:solidFill>
          <a:ln w="12600">
            <a:solidFill>
              <a:srgbClr val="009094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8320" y="1219320"/>
            <a:ext cx="7194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480" indent="-29664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049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919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1033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1033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1033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25.xml"/><Relationship Id="rId9" Type="http://schemas.openxmlformats.org/officeDocument/2006/relationships/slide" Target="slide25.xml"/><Relationship Id="rId10" Type="http://schemas.openxmlformats.org/officeDocument/2006/relationships/slide" Target="slide25.xml"/><Relationship Id="rId1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章  光盘工具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58320" y="1219320"/>
            <a:ext cx="7194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1.1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刻录工具——</a:t>
            </a:r>
            <a:r>
              <a:rPr b="1" lang="en-US" sz="28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Nero-Burning Ro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18ffd"/>
                </a:solidFill>
                <a:uFillTx/>
                <a:latin typeface="Times New Roman"/>
                <a:hlinkClick r:id="rId4" action="ppaction://hlinksldjump"/>
              </a:rPr>
              <a:t>11.2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Times New Roman"/>
                <a:hlinkClick r:id="rId5" action="ppaction://hlinksldjump"/>
              </a:rPr>
              <a:t>刻录工具——</a:t>
            </a:r>
            <a:r>
              <a:rPr b="1" lang="en-US" sz="2800" spc="-1" strike="noStrike" u="sng">
                <a:solidFill>
                  <a:srgbClr val="618ffd"/>
                </a:solidFill>
                <a:uFillTx/>
                <a:latin typeface="Times New Roman"/>
                <a:hlinkClick r:id="rId6" action="ppaction://hlinksldjump"/>
              </a:rPr>
              <a:t>Adaptec Easy CD Creator</a:t>
            </a:r>
            <a:r>
              <a:rPr b="1" lang="en-US" sz="28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11.3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虚拟光驱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705040" y="2595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刻录软件12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295960" cy="2363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14600" y="4876920"/>
            <a:ext cx="426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制作音乐光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76560" y="23814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刻录软件14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543560" cy="3182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819520" y="4952880"/>
            <a:ext cx="3429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音乐光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381480" y="24811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刻录软件15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086360" cy="3252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438280" y="502920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1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刻录音乐光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194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刻录一般数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"/>
          <p:cNvSpPr/>
          <p:nvPr/>
        </p:nvSpPr>
        <p:spPr>
          <a:xfrm>
            <a:off x="3295800" y="2414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刻录软件16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4114800" cy="3270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971800" y="5486400"/>
            <a:ext cx="3809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1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建数据光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7194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据和音乐文件的混合刻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3295800" y="2414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刻录软件17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4248000" cy="3375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342480" y="1981080"/>
            <a:ext cx="127764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1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和音乐文件的混合刻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24200" y="2386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刻录软件18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024520" cy="2998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62320" y="4800600"/>
            <a:ext cx="426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1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刻录数据和音乐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19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映像文件刻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3138480" y="2529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刻录软件19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405320" cy="2765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09680" y="5029200"/>
            <a:ext cx="5181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14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hoose Recorder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6372360"/>
            <a:ext cx="121896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1.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刻录工具—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aptec Easy CD Creator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8320" y="1219320"/>
            <a:ext cx="7194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.2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简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.2.2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应用实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6372360"/>
            <a:ext cx="121896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1.2.1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功能简介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58320" y="1219320"/>
            <a:ext cx="7194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制作音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i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包括三个选项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ndStea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音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音频文件制作个人音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ic CD Projec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用可以在普通音响设备、电脑上播放的音轨制作专业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P3 CD Projec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制作可以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P3 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播放器和电脑上播放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P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58320" y="1219320"/>
            <a:ext cx="7194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制作数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8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包括三个选项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CD Projec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电脑中的任何文件写入光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rectC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格式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rect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盘，以便可以使用其他软件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-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-RW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盘上写入文件，如同将硬盘上的文件移到可移动存储器上一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ke Tw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整个硬盘备份到一张或多张光盘中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1.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刻录工具—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ero-Burning Rom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58320" y="1219320"/>
            <a:ext cx="7194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hlinkClick r:id="rId1" action="ppaction://hlinksldjump"/>
              </a:rPr>
              <a:t>11.1.1  </a:t>
            </a:r>
            <a:r>
              <a:rPr b="1" lang="zh-CN" sz="2800" spc="-1" strike="noStrike" u="sng">
                <a:solidFill>
                  <a:srgbClr val="618ffd"/>
                </a:solidFill>
                <a:uFillTx/>
                <a:latin typeface="Arial"/>
                <a:hlinkClick r:id="rId2" action="ppaction://hlinksldjump"/>
              </a:rPr>
              <a:t>快速上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.1.2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级操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6372360"/>
            <a:ext cx="121896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274400"/>
            <a:ext cx="739116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制作图像或视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to &amp; Vide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括四个选项：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to alb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数字照片，并将其制作成照片专辑或者有声幻灯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deo Postca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制作个性化的多媒体贺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deo Impress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用已有的视频和图片以及摄像设备、数字相机提供的资源，编辑加工成自己的视频文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deo C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E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视频文件制作成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C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V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够播放的光盘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 Copi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8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有一个选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 Copi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样复制到可写光盘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9" name=""/>
          <p:cNvSpPr/>
          <p:nvPr/>
        </p:nvSpPr>
        <p:spPr>
          <a:xfrm>
            <a:off x="3586320" y="28242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easy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4562640" cy="2800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692400" y="2286000"/>
            <a:ext cx="91188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15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asy CD Creator 5 Platinum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功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6372360"/>
            <a:ext cx="121896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1.2.2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应用实例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2766960" y="2176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easy3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700880" cy="3262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05120" y="5105520"/>
            <a:ext cx="5562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1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制作数据光盘（默认界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790720" y="2190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easy4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4905360" cy="3409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895480" y="5105520"/>
            <a:ext cx="3276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1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制作数据光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38760" y="2790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easy5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2901960" cy="2924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124080" y="4724280"/>
            <a:ext cx="2743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1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名光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62920" y="6372360"/>
            <a:ext cx="121896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1.3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虚拟光驱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58320" y="1219320"/>
            <a:ext cx="7194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.3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光盘创建虚拟光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.3.2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文件创建虚拟光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6372360"/>
            <a:ext cx="121896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24080" y="2695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VIRTULDRIVE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4419360" cy="2238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752480" y="4724280"/>
            <a:ext cx="4800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1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虚拟光碟总管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8320" y="1219320"/>
            <a:ext cx="7194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界面上常用的功能键为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插入”       “弹出”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压制”        “部分收纳”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文件转换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此功能可以大幅提升虚拟及真实光盘读取效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1.3.1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由光盘创建虚拟光碟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2595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VIRTULDRIVE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962520" cy="286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371600" y="4800600"/>
            <a:ext cx="2819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2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光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2595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VIRTULDRIVE3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429000" cy="2479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733920" y="4800600"/>
            <a:ext cx="4343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2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目标路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419640" y="2595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VIRTULDRIVE4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3962520" cy="2865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43000" y="4800600"/>
            <a:ext cx="3429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2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压制方式设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2595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VIRTULDRIVE5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352680" cy="2423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952880" y="4724280"/>
            <a:ext cx="2819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2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设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1.1.1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快速上手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218960"/>
            <a:ext cx="719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启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r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3081240" y="2243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刻录软件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4267440" cy="3394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19520" y="5562720"/>
            <a:ext cx="4343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刻录向导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419640" y="2595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VIRTULDRIVE6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581280" cy="2589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219320" y="4648320"/>
            <a:ext cx="2590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2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统计信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25956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VIRTULDRIVE8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3657600" cy="2644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809880" y="4648320"/>
            <a:ext cx="4496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2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压制数据光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781360" y="28098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VIRTULDRIVE9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5905800" cy="2041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14600" y="47242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2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浏览虚拟光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6372360"/>
            <a:ext cx="121896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1.3.2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由文件创建虚拟光碟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194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击主界面上的“部分收纳”按钮，如下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"/>
          <p:cNvSpPr/>
          <p:nvPr/>
        </p:nvSpPr>
        <p:spPr>
          <a:xfrm>
            <a:off x="2909880" y="27288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VIRTULDRIVE10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715000" cy="2408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666880" y="5029200"/>
            <a:ext cx="4191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27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部分收纳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157560" y="2714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VIRTULDRIVE11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5072040" cy="2562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590920" y="487692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2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文件或文件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6372360"/>
            <a:ext cx="121896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7086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5050"/>
                </a:solidFill>
                <a:latin typeface="Arial Black"/>
                <a:ea typeface="宋体"/>
              </a:rPr>
              <a:t>Thank you very much!</a:t>
            </a:r>
            <a:endParaRPr b="1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52480" y="2379240"/>
            <a:ext cx="620424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405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本章到此结束，</a:t>
            </a:r>
            <a:endParaRPr b="1" lang="en-US" sz="5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>
              <a:lnSpc>
                <a:spcPct val="90000"/>
              </a:lnSpc>
              <a:spcBef>
                <a:spcPts val="405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谢谢您的光临！</a:t>
            </a:r>
            <a:endParaRPr b="1" lang="en-US" sz="5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">
            <a:hlinkClick r:id="" action="ppaction://hlinkshowjump?jump=endshow"/>
          </p:cNvPr>
          <p:cNvSpPr/>
          <p:nvPr/>
        </p:nvSpPr>
        <p:spPr>
          <a:xfrm>
            <a:off x="7162920" y="6372360"/>
            <a:ext cx="121896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结束放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86000" y="2328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刻录软件2" descr=""/>
          <p:cNvPicPr/>
          <p:nvPr/>
        </p:nvPicPr>
        <p:blipFill>
          <a:blip r:embed="rId1"/>
          <a:stretch/>
        </p:blipFill>
        <p:spPr>
          <a:xfrm>
            <a:off x="2514600" y="1322280"/>
            <a:ext cx="4038480" cy="3206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743200" y="4952880"/>
            <a:ext cx="3886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刻录向导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186000" y="2328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刻录软件3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433760" cy="3519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38280" y="5334120"/>
            <a:ext cx="4343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刻录向导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19400" y="26049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刻录软件5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4729320" cy="268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81080" y="5029200"/>
            <a:ext cx="5257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没有足够的磁盘空间提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928960" y="1847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刻录软件7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233600" cy="4075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14600" y="5257800"/>
            <a:ext cx="3733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刻录进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6372360"/>
            <a:ext cx="1218960" cy="36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华文新魏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1.1.2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级操作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制作音乐光盘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279360" indent="-279360" algn="just">
              <a:lnSpc>
                <a:spcPct val="8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-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界面上选择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ile a new CD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项，单击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钮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3081240" y="2243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刻录软件10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4276800" cy="3402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631920" y="2514600"/>
            <a:ext cx="91188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6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ile a new CD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43160" y="2290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刻录软件11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324320" cy="3444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90920" y="4952880"/>
            <a:ext cx="3809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-7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udio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6T00:46:52Z</dcterms:created>
  <dc:creator>Andy Sweet</dc:creator>
  <dc:description/>
  <dc:language>en-US</dc:language>
  <cp:lastModifiedBy>ya6</cp:lastModifiedBy>
  <dcterms:modified xsi:type="dcterms:W3CDTF">2003-02-27T01:44:07Z</dcterms:modified>
  <cp:revision>80</cp:revision>
  <dc:subject/>
  <dc:title>Module 7: Designing a Multiple Domain Structure</dc:title>
</cp:coreProperties>
</file>